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DA70E-D581-4F26-A53C-B611C3D2AB3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0F558-AFDA-4605-B46A-6FE4C42820E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B5C9D-603A-459D-AE80-EB4659650D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EE998-D6FA-446B-9F40-5C656CF89DB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82069-6218-4F4D-9D5D-1F631EB9C42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1E457-AE0D-48F7-86C3-4274718109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C6BAC-6EB0-45E3-B407-83974F4961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EC2A8-EAD8-442D-8590-4C166F53ED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EBB8B-05F2-4DF5-84F2-9F243EDE60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51F6-9CBA-406C-B240-730B293899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B4F8-828C-439F-BE56-A0314AD2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1E8F-67C1-4D0C-AA06-DBB817C2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DB045-769D-4A02-A915-FE370ED96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5584-D391-4A74-999D-3660ACB3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7816-B271-4627-AC9C-722A10D0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8247-1FC1-4442-81BD-E00B9B0A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B9E3-D422-4886-95DF-88D46E70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37D4-BEE6-4256-99D6-D269570D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B772-B060-41C8-8B99-8AF4D7E3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EFE7-19C1-4058-A7CE-E682B519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13108-E726-4DBE-9271-B6836FD9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E3B15-F7EB-4198-8E8E-4E8863AAB54B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%23page3" TargetMode="External"/><Relationship Id="rId3" Type="http://schemas.openxmlformats.org/officeDocument/2006/relationships/hyperlink" Target="file:///%23page4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6844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  <a:ea typeface="Osaka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Osaka"/>
              </a:rPr>
              <a:t>TIPOS DE ERUPCIONES Y TIPOS DE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6052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  <a:ea typeface="Osaka"/>
              </a:rPr>
              <a:t>Tipos de erupciones y tipos de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600360" y="1260360"/>
            <a:ext cx="2160720" cy="1079640"/>
          </a:xfrm>
          <a:prstGeom prst="roundRect">
            <a:avLst>
              <a:gd name="adj" fmla="val 16667"/>
            </a:avLst>
          </a:prstGeom>
          <a:solidFill>
            <a:srgbClr val="7e0021"/>
          </a:solidFill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IPO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OLCA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>
            <a:hlinkClick r:id="rId2"/>
          </p:cNvPr>
          <p:cNvSpPr/>
          <p:nvPr/>
        </p:nvSpPr>
        <p:spPr>
          <a:xfrm>
            <a:off x="1979640" y="3240000"/>
            <a:ext cx="2160720" cy="1079640"/>
          </a:xfrm>
          <a:prstGeom prst="roundRect">
            <a:avLst>
              <a:gd name="adj" fmla="val 16667"/>
            </a:avLst>
          </a:prstGeom>
          <a:solidFill>
            <a:srgbClr val="7e0021"/>
          </a:solidFill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RUP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LOS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>
            <a:hlinkClick r:id="rId3"/>
          </p:cNvPr>
          <p:cNvSpPr/>
          <p:nvPr/>
        </p:nvSpPr>
        <p:spPr>
          <a:xfrm>
            <a:off x="5219640" y="3240000"/>
            <a:ext cx="2160720" cy="1079640"/>
          </a:xfrm>
          <a:prstGeom prst="roundRect">
            <a:avLst>
              <a:gd name="adj" fmla="val 16667"/>
            </a:avLst>
          </a:prstGeom>
          <a:solidFill>
            <a:srgbClr val="7e0021"/>
          </a:solidFill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RUP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PLOS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4680000" y="2340000"/>
            <a:ext cx="1440" cy="40320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2962440" y="2724120"/>
            <a:ext cx="3319200" cy="302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2962440" y="2752560"/>
            <a:ext cx="1440" cy="487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6283440" y="2725560"/>
            <a:ext cx="1440" cy="487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863640" y="5111640"/>
            <a:ext cx="180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5000b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n 2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6242040" cy="27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"/>
          <p:cNvSpPr/>
          <p:nvPr/>
        </p:nvSpPr>
        <p:spPr>
          <a:xfrm rot="5400000">
            <a:off x="-56052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984240" y="9036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  <a:ea typeface="Osaka"/>
              </a:rPr>
              <a:t>Tipos de erupciones y tipos de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33480" y="1274760"/>
            <a:ext cx="788652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os volcanes expulsan al aire grandes cantidades de gases tóxicos, piroclastos ardientes y cenizas que pueden sepultar poblaciones enteras, así como nubes ardientes que pueden abrasar todo a su pas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por tanto volcanes de gran peligros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 lo general son volcanes de forma esbelta, y a veces, en sus erupciones mas violentas, el cono se derrumba para, con el tiempo y otras erupciones menos violentas, irse reconstruyen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mplos de volcanes que producen este tipo de erupciones son, por ejemplo, el Vesubio y el Krakato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898560" y="90792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8700"/>
                </a:solidFill>
                <a:latin typeface="Arial"/>
              </a:rPr>
              <a:t>Volcanes con erupciones explos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n 1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8370720" cy="32734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"/>
          <p:cNvSpPr/>
          <p:nvPr/>
        </p:nvSpPr>
        <p:spPr>
          <a:xfrm rot="5400000">
            <a:off x="-56052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984240" y="9036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  <a:ea typeface="Osaka"/>
              </a:rPr>
              <a:t>Tipos de erupciones y tipos de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33480" y="1274760"/>
            <a:ext cx="788652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volcanes que, por lo general, expulsan lava muy líquida que fluye suavem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rmalmente son volcanes de poca peligrosidad, salvo casos de coladas muy rápidas o emisión de gases tóxicos, pero en general, con conocer por dónde discurre la lava suele bastar para que no ocasionen dañ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trata por lo general de volcanes en forma de escudo, de pendientes suaves y enorme extensión, debido al modo en que la lava se va depositando en sus lader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 ejemplo de éstos volcanes son los volcanes de las islas Hawai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98560" y="90792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8700"/>
                </a:solidFill>
                <a:latin typeface="Arial"/>
              </a:rPr>
              <a:t>Volcanes con erupciones no explos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5T10:46:31Z</dcterms:modified>
  <cp:revision>44</cp:revision>
  <dc:subject/>
  <dc:title>Diapositiva 1</dc:title>
</cp:coreProperties>
</file>